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E187ED8D-8B3D-4687-8146-AD86420102D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30AD77BD-E28B-4CF6-AB02-27DC08720AC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4: Back-up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439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500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025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Defect Estim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3" name="Picture 17" descr=""/>
          <p:cNvPicPr/>
          <p:nvPr/>
        </p:nvPicPr>
        <p:blipFill>
          <a:blip r:embed="rId1"/>
          <a:stretch/>
        </p:blipFill>
        <p:spPr>
          <a:xfrm>
            <a:off x="1017720" y="1890720"/>
            <a:ext cx="74516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est Defects - Lis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Lisa’s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Q data indicate the team is gathering def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ever, Lisa’s team is not meeting its quality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unit test defects are 2.24 times the number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 is that integration and system test defects will also be 2.24 times the number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est Defects - Je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eff’s team has not been recording all of its defect data so we must do the follow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defects injected, multiply phase time by injection 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defects removed by using the yield for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gnore defects injected before implemen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developers who use the PSP and gather defects data inject fewer defects, multiply these estimates by the following factor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dditional design defects injected – 1.0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dditional coding defects injected – 1.5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Injected – Jeff’s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1"/>
          <a:stretch/>
        </p:blipFill>
        <p:spPr>
          <a:xfrm>
            <a:off x="530280" y="2185920"/>
            <a:ext cx="8219880" cy="1646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796680" y="58993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19080" y="6067440"/>
            <a:ext cx="746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When developers do not record defect data, they inject more defects than when they do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Removed – Jeff’s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378000" y="2019240"/>
            <a:ext cx="82404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per Def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data from George’s team, the time required to remove defects in integration and system test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 time: 14.27 hours per defect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 time:  25 hours per defect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Task Tim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ask time for the teams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20 weeks, Jeff’s team has worked 1,698.3 task hours.  That is 84.92 task hours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has worked 1,679.9 task hours in 22 weeks for an average of 76.36 task hours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Estimate – Lisa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d test time for Lisa’s team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: 30.7 defects at 14.27 hours each is 438.1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: 15.0 defects at 25 hours each is 375 task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estimated test time is 813.1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Estimate – Jeff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Jeff’s team, the estimated test time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: 123.7 defects at 14.27 hours = 1,765.4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: 52.2 defects at 25 hours each = 1305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estimated test time is 3,070.4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Schedule Estimate - Lis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98280" y="16938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planned on 362.9 hours of testing, so the 813.1 test time estimate adds 450.2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76.36 task hours per week, this adds 5.9 weeks to the EV estimate of 19.5 weeks, ending in 25. 4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Schedule Estimate - Je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8280" y="1706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eff’s team planned on 288 hours of testing, so the  3,070.4 hour estimate adds 2,782.4 hours to that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84.92 task hours per week, this will add 32.8 weeks to the EV estimate of 18.6 weeks, giving 51.4 more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Assurance Concer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1848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data from prior projects, Quality Assurance believes that insufficient time is planned for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1041480" y="2546280"/>
            <a:ext cx="7057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98280" y="1693800"/>
            <a:ext cx="7289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has earned 53 EV points in 22 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 rate of 2.409 EV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695160" y="1324080"/>
            <a:ext cx="77518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4880" y="1429920"/>
            <a:ext cx="70372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Jeff’s team has earned 51.8 EV in 20 week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is is a rate of 2.59 EV per week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1"/>
          <a:stretch/>
        </p:blipFill>
        <p:spPr>
          <a:xfrm>
            <a:off x="698400" y="1320840"/>
            <a:ext cx="77932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V Schedule Estim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201600" y="2128680"/>
            <a:ext cx="837108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27040" y="1046160"/>
            <a:ext cx="8109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00040" y="1054080"/>
            <a:ext cx="81295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527040" y="1054080"/>
            <a:ext cx="808848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3:1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53Z</dcterms:modified>
  <cp:revision>55</cp:revision>
  <dc:subject>24 July 2001 / 3:30pm</dc:subject>
  <dc:title>PowerPoint Presentation</dc:title>
</cp:coreProperties>
</file>